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breeze.wav" ContentType="audio/x-wav"/>
  <Override PartName="/ppt/media/image8.jpeg" ContentType="image/jpeg"/>
  <Override PartName="/ppt/media/whoosh.wav" ContentType="audio/x-wav"/>
  <Override PartName="/ppt/media/explod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chimes.wav" ContentType="audio/x-wav"/>
  <Override PartName="/ppt/media/image12.png" ContentType="image/png"/>
  <Override PartName="/ppt/media/image7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F5A-B23F-40CC-8FC4-54DAB1DF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CA1-3ECA-4EF8-9BF8-13A1DA309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303E-9EFE-43E4-8367-D726F8F0C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C988-886D-497F-A701-915B16493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3E644-F105-4692-8D0D-B0DC2613D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A50B2-93BD-4C81-8FCD-A5F36B93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24B2-635B-47B8-8048-B62960F12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73E57-6080-44C5-A22C-C765EA25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504B6-C847-446D-AD30-595B28242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03FE-7011-4102-A91D-F94618A6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B8C3-2B27-47A2-AD67-56A306D8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DEA-A572-496B-8A2A-63F3AF13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9007-60E8-49FC-A05A-380C1E7A3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1BE2C-DC88-4B14-BB4C-4CD410A23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6001-9039-491D-B888-AAD448BE4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7AB26-25AA-40DC-9573-82C964DD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78766-6CAD-49F6-A621-ED1DDEBE8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2481-3C98-4AE7-ABA3-956EA690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DDF-A8CF-406C-B574-46C11D53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C58C-AF4E-4847-9372-0DDD8CCB8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570-3630-4B69-8351-010A1AA5C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BF39-90D9-4BC1-B897-9F96B4D8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4EF6-76DE-4586-AFCA-5B4EF2EA2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F391-47BE-490D-9CDF-F8C124F2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C9A4C-5BAA-44AD-BF54-680AD163D2F5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D050-C38E-4B3B-B2DA-DE3B8E0B1EBF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tset.com.tw/images/man%20with%20question%20mark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rawbooks.com/123_draw_series/73-images/07_04.gif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Comic Sans MS"/>
              </a:rPr>
              <a:t>Mini Lesso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Comic Sans MS"/>
              </a:rPr>
              <a:t>Lesson on 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06800" y="3733920"/>
            <a:ext cx="109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 you understand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 hope you understand this writing technique a little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re are several different stations that you will have to go to and show your proficienc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go to the differ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ons moving your car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use your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me wisel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complete the 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heckli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that you know where you’ve bee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Beverly Cleary’s Wor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95560"/>
            <a:ext cx="5638680" cy="2705040"/>
          </a:xfrm>
          <a:prstGeom prst="wedgeRoundRectCallout">
            <a:avLst>
              <a:gd name="adj1" fmla="val 49462"/>
              <a:gd name="adj2" fmla="val 71773"/>
              <a:gd name="adj3" fmla="val 16667"/>
            </a:avLst>
          </a:prstGeom>
          <a:noFill/>
          <a:ln w="158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6384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inutes crawled by. The long Oregon dusk turned into night.  The girls turned on the television set to a program about people in a hospital . . 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574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do you think Beverly Cleary meant when she said that the minutes crawled b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60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n you imagine minutes crawling across our classroom floor?  Too Sill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Ramona Forever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went by so slowly for Ramona and her sister that they thought the minutes where crawling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4724280"/>
          <a:ext cx="1479600" cy="14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24280"/>
                    <a:ext cx="14796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666880" y="4114800"/>
            <a:ext cx="5562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verly Cleary was using a writing technique called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5562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personific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ersonification is when you describe nonliving things by using human actions or emo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es this fancy word mea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ill confused?  Don’t worry – let’s look at some examples to help understand personificatio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3280" y="4419720"/>
            <a:ext cx="116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3429000"/>
            <a:ext cx="6553440" cy="220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un Danc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un danced across the sky on the hot summer day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429000"/>
            <a:ext cx="1524240" cy="13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655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sun really danc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Motion origin="layout" path="M 3.33333E-006 -4.44444E-006 C -0.00087 0.11413 -0.00157 0.22825 -0.03212 0.23218 C -0.06268 0.23612 -0.14011 0.02362 -0.18386 0.02362 C -0.22761 0.02362 -0.25643 0.22894 -0.29514 0.23218 C -0.33386 0.23542 -0.37674 0.0419 -0.41615 0.04306 C -0.45556 0.04422 -0.49045 0.24584 -0.53212 0.23866 C -0.57379 0.23149 -0.61997 0.11575 -0.66615 -4.44444E-006 E">
                                      <p:cBhvr>
                                        <p:cTn id="148" dur="5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encil Scream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pencil screamed as the boy turned the handle on the pencil sharpener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0" y="3962520"/>
            <a:ext cx="1512720" cy="2209680"/>
            <a:chOff x="2286000" y="3962520"/>
            <a:chExt cx="1512720" cy="2209680"/>
          </a:xfrm>
        </p:grpSpPr>
        <p:pic>
          <p:nvPicPr>
            <p:cNvPr id="114" name="" descr="cartoon pencil"/>
            <p:cNvPicPr/>
            <p:nvPr/>
          </p:nvPicPr>
          <p:blipFill>
            <a:blip r:embed="rId1"/>
            <a:stretch/>
          </p:blipFill>
          <p:spPr>
            <a:xfrm>
              <a:off x="2286000" y="3962520"/>
              <a:ext cx="1512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895480" y="5029200"/>
              <a:ext cx="30492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48" y="120"/>
                    <a:pt x="96" y="240"/>
                    <a:pt x="144" y="240"/>
                  </a:cubicBezTo>
                  <a:cubicBezTo>
                    <a:pt x="192" y="240"/>
                    <a:pt x="240" y="120"/>
                    <a:pt x="288" y="0"/>
                  </a:cubicBezTo>
                </a:path>
              </a:pathLst>
            </a:custGeom>
            <a:noFill/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9880" y="3581280"/>
            <a:ext cx="2514600" cy="914400"/>
          </a:xfrm>
          <a:prstGeom prst="wedgeEllipseCallout">
            <a:avLst>
              <a:gd name="adj1" fmla="val -45263"/>
              <a:gd name="adj2" fmla="val 100000"/>
            </a:avLst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AHHHH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800600"/>
            <a:ext cx="3733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pencil ever scream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Old Car Groan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old car groaned as it made its way down the long open road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3371760"/>
            <a:ext cx="4190760" cy="2571840"/>
            <a:chOff x="990720" y="3371760"/>
            <a:chExt cx="4190760" cy="257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990720" y="4286160"/>
              <a:ext cx="2438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124080" y="3371760"/>
              <a:ext cx="20574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 can’t make it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520" y="3962520"/>
            <a:ext cx="3124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car ever groan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44583 -0.00139 E">
                                      <p:cBhvr>
                                        <p:cTn id="199" dur="84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trawberry Spok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trawberries seemed to say, "Eat me first!"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93040" y="3429000"/>
            <a:ext cx="1636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164040" y="3505320"/>
            <a:ext cx="2743200" cy="1752480"/>
            <a:chOff x="3164040" y="3505320"/>
            <a:chExt cx="2743200" cy="1752480"/>
          </a:xfrm>
        </p:grpSpPr>
        <p:sp>
          <p:nvSpPr>
            <p:cNvPr id="128" name=""/>
            <p:cNvSpPr/>
            <p:nvPr/>
          </p:nvSpPr>
          <p:spPr>
            <a:xfrm>
              <a:off x="3164040" y="3505320"/>
              <a:ext cx="2743200" cy="1752480"/>
            </a:xfrm>
            <a:prstGeom prst="wedgeEllipseCallout">
              <a:avLst>
                <a:gd name="adj1" fmla="val 78819"/>
                <a:gd name="adj2" fmla="val 42208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4920" y="38862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d0d"/>
                  </a:solidFill>
                  <a:latin typeface="Arial"/>
                </a:rPr>
                <a:t>Eat me first – I am yummy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" y="4952880"/>
            <a:ext cx="342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strawberries really talk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1:07:09Z</dcterms:created>
  <dc:creator>Lynn Medea</dc:creator>
  <dc:description/>
  <dc:language>en-US</dc:language>
  <cp:lastModifiedBy>Jamison Renfro</cp:lastModifiedBy>
  <dcterms:modified xsi:type="dcterms:W3CDTF">2007-11-13T01:59:40Z</dcterms:modified>
  <cp:revision>21</cp:revision>
  <dc:subject/>
  <dc:title>PowerPoint Presentation</dc:title>
</cp:coreProperties>
</file>